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84A-2289-441C-B157-6BB246C4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D62-121C-4E8A-A4AE-6672E4DE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D36-AA52-488A-B654-E8A6E759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D76-51B9-4E9A-BE76-EDCB20C1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287-8945-4A11-B827-3E994E6D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0F5-D023-485C-8390-0F823AD3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E79-511D-4D6E-AD8D-435DDD1B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773-04DA-411A-BB1C-6007685F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350-CFB6-4DDC-B237-9099F86E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D1F-D8A3-4B2D-B502-ED2A73C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BF5-0ECD-4DF1-BA29-4793E655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956-EFC8-4F14-820C-DAE0DF66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BF89-677A-46FC-9497-C418A7975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uesday, September 23r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se angle measures does NOT have the same coordinates as the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ind the six trigonometric functions of t = </a:t>
            </a:r>
            <a:r>
              <a:rPr b="0" lang="en-US" sz="40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c08d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ind the six trig functions of        t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ind the six trig functions of        t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</a:rPr>
              <a:t>7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Page 300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#13-27 odd</a:t>
            </a:r>
            <a:endParaRPr b="0" lang="en-US" sz="7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Give back tests!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(page 300 #5-11,29-33,43,47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2286000"/>
          <a:ext cx="6541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54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876920" y="2286000"/>
          <a:ext cx="65376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6537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066680" y="4419720"/>
          <a:ext cx="831960" cy="73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419720"/>
                    <a:ext cx="83196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04920" y="1981080"/>
            <a:ext cx="8001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point (x,y) on the unit circle that corresponds to the real number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52880" y="4267080"/>
          <a:ext cx="673200" cy="6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267080"/>
                    <a:ext cx="673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aluate the trigonometric function using its period as an aid.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.  Sin 5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1.cos            33.  cos (-3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19720" y="1523880"/>
          <a:ext cx="6062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606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Use a calculator to evaluate the expression. Round to four decimal places.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3.  Sin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4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7.  cos (-1.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-1523880"/>
            <a:ext cx="7753320" cy="898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4.2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ix trigonometric function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e (Si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ine (Co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gent (T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tangent (Co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ant (Se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ecant (Cs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If t is a number and (x,y) is a point on the unit circle…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 t = 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 t =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t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sc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1:58:27Z</dcterms:created>
  <dc:creator>jnewman</dc:creator>
  <dc:description/>
  <dc:language>en-US</dc:language>
  <cp:lastModifiedBy>abeason</cp:lastModifiedBy>
  <dcterms:modified xsi:type="dcterms:W3CDTF">2008-09-23T13:03:23Z</dcterms:modified>
  <cp:revision>9</cp:revision>
  <dc:subject/>
  <dc:title>Lesson 4.2 part three</dc:title>
</cp:coreProperties>
</file>